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87C4-0D38-4D19-9BDE-AC036670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577D-1FA5-4BEB-8CC5-60D8D6FC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C0E-D136-44B6-B36D-DD1ABF12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4281-9DE8-4AF9-9C13-E927D412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C2B7-5215-4286-B225-5DA6C281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1066-6312-4A10-B5DF-52CD56A9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5113-C175-4639-A440-707B5EDA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49E2-F85F-4E12-B894-D1B1EFD7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9A07-D292-475E-BC15-A235531A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F69E-F2CB-4F8B-AD61-DA2E6B87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5F76-6FC8-4EDC-B49E-85899BBC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0670-D81A-480A-B643-DBC3604C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3CD5-DF37-4E24-B265-6B264F19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64EA-21A8-4004-9DFF-FB5B3723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43BE-62C4-4FED-B47C-7D8FE7C0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498C-D693-4456-974A-C73A2F76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FA14-33F6-436D-9AD2-8BF056D5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B062-B495-427F-A4E5-32847F74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DDC2-7349-46AE-B2E9-B30FB5CD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517B-8F12-4D4E-81A1-E402AD64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E8EA-393F-44BE-8E56-43977FEF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7F6C-5736-41E7-9FA7-A68C5D00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6629-A027-433A-B227-45304321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5934-1B51-4D1D-855F-5068AD95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9817-873F-418D-9FFE-9AF5B7B37C1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C576-2324-4708-BBFF-CF9872BF167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 Man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r: korrielag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mansi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Arial"/>
              </a:rPr>
              <a:t>ó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a mansi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  <a:ea typeface="Arial"/>
              </a:rPr>
              <a:t>ó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.  Es fabulosa y bell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267080" y="3295800"/>
            <a:ext cx="4438800" cy="27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 una sal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a sala es estupenda y bonit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657600" y="3276720"/>
            <a:ext cx="4952880" cy="3200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 una cocin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a cocina  magn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  <a:ea typeface="Arial"/>
              </a:rPr>
              <a:t>ì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co y bell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267080" y="2666880"/>
            <a:ext cx="4381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Cuatr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a Cuatro es bella y bonit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4114800" y="3168720"/>
            <a:ext cx="454356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Ban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 Bano es estupenda y bell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48769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Pati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 Patio es grande y bella y fabulos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962520" y="3200400"/>
            <a:ext cx="4762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Jard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jardin es magnifico y bella y grand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886200" y="297180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piscin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Piscina es grande y fabulosa y bell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267080" y="278136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12:07:08Z</dcterms:created>
  <dc:creator>lagekor</dc:creator>
  <dc:description/>
  <dc:language>en-US</dc:language>
  <cp:lastModifiedBy>lagekor</cp:lastModifiedBy>
  <dcterms:modified xsi:type="dcterms:W3CDTF">2012-10-25T17:23:37Z</dcterms:modified>
  <cp:revision>4</cp:revision>
  <dc:subject/>
  <dc:title>Slide 1</dc:title>
</cp:coreProperties>
</file>